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863-2719-42FF-95B1-CA44A0F9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3D6-F2FE-4639-AFA4-7E6E23B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718-793F-4257-92A7-3A26CC45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A27-BE4C-4139-84F5-6AEDE4AC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1E72-A28E-4008-AD08-3680F79B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6BB-6429-4E9E-ACD5-6DB9F15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9F7-7699-4066-902F-D6EDE54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F801-2A01-4BBB-93F3-04FF26E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A94B-F7D5-41C2-A252-391B589C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9BF-6B33-4F48-9098-6F54057D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8D7D-B460-4867-AC60-07ED77A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D90-42EC-409A-B5EC-CAA41509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ECF6-1381-4FC6-BC68-F65CAD60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8E9E-0241-4755-A4A2-E23C56E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B4DF-7917-4921-B3F2-3D9A2B65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F750-0571-4337-B73A-2079E73F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07B-151F-4A6C-8517-15833B34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F15-FA7F-483C-A4A2-AB51B25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18A-8A6B-41AD-B0FF-C43D357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C23-36CB-42AF-B57C-F38EBC57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F75-34DC-44BA-B79E-10F6728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057-294D-4EBA-8AA5-36DC6B1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524-66F8-4E37-BF14-E0961B8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A8C-7468-447F-A409-FD343CE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1211-9692-46A4-BE3F-A2EC4D5A1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B786-20CA-4513-8A1A-ADF02241D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fferentiating the Produ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nage when all Students are Creating a Product of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 Rub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grading expectation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overal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lenty of time for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 discussion forum fo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lass time for individu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side large chucks of time fo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arrange for tec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orybo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students to pres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hould reflect on the products and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, forum, blo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3:05:24Z</dcterms:created>
  <dc:creator>Lisa Sands</dc:creator>
  <dc:description/>
  <dc:language>en-US</dc:language>
  <cp:lastModifiedBy>Lisa Sands</cp:lastModifiedBy>
  <dcterms:modified xsi:type="dcterms:W3CDTF">2008-01-30T03:23:44Z</dcterms:modified>
  <cp:revision>1</cp:revision>
  <dc:subject/>
  <dc:title>Differentiating the Product</dc:title>
</cp:coreProperties>
</file>